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907200" cy="6742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907560" cy="67420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Num" idx="3"/>
          </p:nvPr>
        </p:nvSpPr>
        <p:spPr>
          <a:xfrm>
            <a:off x="5271840" y="6315120"/>
            <a:ext cx="425916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8F2C452B-1A08-40A4-B4BC-D263D32287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953400" y="103320"/>
            <a:ext cx="2384280" cy="328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3286080" y="519120"/>
            <a:ext cx="338760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12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44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12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44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036C8-3081-40B9-9133-7983F0A607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E3ABD-7CAB-43F5-A176-9A4948BA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32820-A36D-4AF1-A5C1-D7BC5368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2BA32-9271-4144-905D-362682FD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0F572-6E6A-4A78-B31B-F29DFE67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709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90641-82B2-46B9-A11F-4ECACFDE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E7D64-5F34-46DF-8EC5-ED9C1085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5F7C7-BBBC-41FD-B49C-58E2610E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3293A-A824-4C50-A998-9A2F9A43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FE52C-ADFA-4887-82FB-2475ED99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D4423-7E2A-4FA2-9CA6-79346A30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912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44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912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44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25112-60AB-4E1F-B77E-D970D1DE50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709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6400800"/>
            <a:ext cx="632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ITK 2008      T.Tammet    Programmeerimine: sorteerimine  lk   </a:t>
            </a:r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- </a:t>
            </a:r>
            <a:fld id="{51F6CE0D-A35D-46C8-8783-070B6020E216}" type="slidenum">
              <a:rPr b="1" lang="en-GB" sz="14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14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C7515-3B9E-4D9A-B506-FA71AF8BAA8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ath.hws.edu/TMCM/java/xSortLab/" TargetMode="External"/><Relationship Id="rId2" Type="http://schemas.openxmlformats.org/officeDocument/2006/relationships/hyperlink" Target="http://www.cs.ubc.ca/spider/harrison/Java/sorting-demo.html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ammeerimi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algkurs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binaarne otsing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sorteerimin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9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Mergesort: outer part of the algorith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static void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mergesor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int[] A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f (A.length &gt; 1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split the array into two piece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as close to the same size as possi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[] first =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extrac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A, 0, A.length/2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[] last  =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extrac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A, A.length/2, A.length);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sort each of the two halves recursive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mergesor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firs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mergesor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las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merge the two sorted halves toge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A, first, las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4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Mergesort: splitting function of the algorith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extract: returns a subarray of A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starting with index start in A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continuing to (but not including) index la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static int[]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extrac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int[] A, int start, int last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[] ret = new int[last - start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for(int i = 0; i &lt; ret.length; i++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ret[i] = A[start + i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return re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5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Mergesort: merging function of the algorith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merge: merges arrays a and b, placing the result into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array dest. This only works if both a and b are already 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increasing ord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static void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int[] dest, int[] a, int[] b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 j = 0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while(i &lt; a.length &amp;&amp; j &lt; b.length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f(a[i] &lt; b[j]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dest[i + j] = a[i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++i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dest[i + j] = b[j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++j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for(; i &lt; a.length; i++) dest[i + j] = a[i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for(; j &lt; b.length; j++) dest[i + j] = b[j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5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Quicksort: normally fast, N*log(N) in average cas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761760"/>
            <a:ext cx="8153640" cy="56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Complexity: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N*log(N) in average case, but N*N in worst case. However, in practice typically a bit faster than always N*log(N) algorith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Nice property: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does not need extra memory for temporary sto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Idea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is a bit similar to mergesor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plit an array into two parts (not necessarily equal size) so that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all elements in first part are smaller than all elements of the second part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n order to do that, pick a probably-average-size element (pivot)  to split an array into smaller-element and larger-element sub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Call quicksort recursively on both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Finally everything is sort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NB!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Quicksort performs badly if we have no luck when choosing pivot. In worst case, one half of array contains just one elemen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6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Quicksort: outer part of the algorith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610840" cy="562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static void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quicksor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int[] A, int lo, int hi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f (hi &lt;= lo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The list has length one or zero.  Nothing nee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to be done, so just return from the subrouti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Apply quicksortStep and get the pivot posi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Then apply quicksort to sort the items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precede the pivot and the items that follow i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 pivotPosition =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quicksortStep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A, lo, hi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quicksort(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, lo, pivotPosition - 1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quicksor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A, pivotPosition + 1, hi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6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Quicksort:  inner part of the algorith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55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static int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quicksortStep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int[] A, int lo, int hi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 pivot = A[lo];  // Get the pivot value.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while (hi &gt; lo) {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while (hi &gt; lo &amp;&amp; A[hi] &gt; pivot) hi--;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f (hi == lo) break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[lo] = A[hi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o++;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while (hi &gt; lo &amp;&amp; A[lo] &lt; pivot) lo++;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f (hi == lo) break;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[hi] = A[lo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hi--;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 // end while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[lo] = pivo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return lo;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  // end QuicksortSte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7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Sorting: some comparis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8377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We will have a look at the sorting applets running in parallel and Eck sorting lab timing 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 u="sng">
                <a:solidFill>
                  <a:srgbClr val="ccccff"/>
                </a:solidFill>
                <a:uFillTx/>
                <a:latin typeface="Courier New"/>
                <a:hlinkClick r:id="rId1"/>
              </a:rPr>
              <a:t>http://math.hws.edu/TMCM/java/xSortLab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 u="sng">
                <a:solidFill>
                  <a:srgbClr val="ccccff"/>
                </a:solidFill>
                <a:uFillTx/>
                <a:latin typeface="Courier New"/>
                <a:hlinkClick r:id="rId2"/>
              </a:rPr>
              <a:t>http://www.cs.ubc.ca/spider/harrison/Java/sorting-demo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7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8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aarne ot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rteerim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eglased sorteerimisalgoritmid: keerukus N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erge sort: keerukus N*log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Quicksort: hea keskmine keerukus, halb halvim ju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õrdlusi ja näit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9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inaarne otsin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hvl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0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S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Naive, simple sorting algorithms ta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N*N tries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(quadratic time) in worst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xamples: bubble sort, insertion sort, selection s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Optimal algorithms (several meanings of “optimal”) ta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N*log(N)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tries in worst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xamples: merge sort, heap s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ossibly infinite number of different sorting algorithms can be devi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For example, “Quicksort” is bad on worst case, but very good on average ca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0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Insertion sort (slow): partial algorithm at firs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static void insert(int[] A, int itemsInArray, int newItem) {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int loc = itemsInArray - 1;  // Start at the end of the array.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/* Move items bigger than newItem up one spac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Stop when a smaller item is encountered or when t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beginning of the array (loc == 0) is reached. */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while (loc &gt;= 0 &amp;&amp; A[loc] &gt; newItem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A[loc + 1] = A[loc];  // Bump item from A[loc] up to loc+1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loc = loc - 1;        // Go on to next location</a:t>
            </a:r>
            <a:r>
              <a:rPr b="1" lang="et-EE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A[loc + 1] = newItem;  // Put newItem in last vacated sp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1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Insertion sort: full algorith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839440" cy="55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Idea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 shift each next element to a right place in a sorted part of arra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static void insertionSort(int[] A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int itemsSorted; // Number of items that have been sorted so f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for (itemsSorted = 1; itemsSorted &lt; A.length; itemsSorted++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int temp = A[itemsSorted];  // The item to be insert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int loc = itemsSorted - 1;  // Start at end of list.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while (loc &gt;= 0 &amp;&amp; A[loc] &gt; temp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A[loc + 1] = A[loc]; // Bump item from A[loc] up to loc+1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loc = loc - 1;       // Go on to next location</a:t>
            </a:r>
            <a:r>
              <a:rPr b="1" lang="et-EE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A[loc + 1] = temp; // Put temp in last vacated spa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1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Insertion sor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2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13480" cy="529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Mergesort: fast, N*log(N) in worst cas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56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Idea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&lt;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n the array is already sorted. Stop n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wise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&gt;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and we perform the following three steps in sequen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rt the left half of the the arr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rt the right half of the the arr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rge the now-sorted left and right halv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I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First phase, recursively split an array into small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econd phase: merge sorted parts, preserving right or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Why it works fast: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erging two sorted arrays into one is simple and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Complexity (speed):  X*X   &gt;   2 * ((X/2)*(X/2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2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H="1">
            <a:off x="7618320" y="3124080"/>
            <a:ext cx="308160" cy="30492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05920" y="3505320"/>
            <a:ext cx="304560" cy="38088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3505320"/>
            <a:ext cx="304920" cy="38088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24680" y="3124080"/>
            <a:ext cx="30492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389720" y="3505320"/>
            <a:ext cx="231840" cy="38088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8075520" y="3581280"/>
            <a:ext cx="231840" cy="30492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15200" y="4495680"/>
            <a:ext cx="30492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694640" y="4495680"/>
            <a:ext cx="23184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4495680"/>
            <a:ext cx="38088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8456760" y="4495680"/>
            <a:ext cx="7920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8151840" y="4952880"/>
            <a:ext cx="23184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96080" y="4952880"/>
            <a:ext cx="30492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Explanation of how we get time N*log(N)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8377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4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222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</cp:lastModifiedBy>
  <dcterms:modified xsi:type="dcterms:W3CDTF">2005-10-31T07:18:44Z</dcterms:modified>
  <cp:revision>162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ttu.ee/it/vorgutarkvara/wai4040/</vt:lpwstr>
  </property>
  <property fmtid="{D5CDD505-2E9C-101B-9397-08002B2CF9AE}" pid="9" name="LinkColor">
    <vt:r8>16711782</vt:r8>
  </property>
  <property fmtid="{D5CDD505-2E9C-101B-9397-08002B2CF9AE}" pid="10" name="MailAddress">
    <vt:lpwstr>tammet@cc.ttu.ee</vt:lpwstr>
  </property>
  <property fmtid="{D5CDD505-2E9C-101B-9397-08002B2CF9AE}" pid="11" name="NavBtnPos">
    <vt:r8>3</vt:r8>
  </property>
  <property fmtid="{D5CDD505-2E9C-101B-9397-08002B2CF9AE}" pid="12" name="OutputDir">
    <vt:lpwstr>C:\tty\javakursus</vt:lpwstr>
  </property>
  <property fmtid="{D5CDD505-2E9C-101B-9397-08002B2CF9AE}" pid="13" name="ScreenSize">
    <vt:r8>2</vt:r8>
  </property>
  <property fmtid="{D5CDD505-2E9C-101B-9397-08002B2CF9AE}" pid="14" name="ScreenUsage">
    <vt:r8>2</vt:r8>
  </property>
  <property fmtid="{D5CDD505-2E9C-101B-9397-08002B2CF9AE}" pid="15" name="ShowNotes">
    <vt:bool>0</vt:bool>
  </property>
  <property fmtid="{D5CDD505-2E9C-101B-9397-08002B2CF9AE}" pid="16" name="TemplateType">
    <vt:r8>1</vt:r8>
  </property>
  <property fmtid="{D5CDD505-2E9C-101B-9397-08002B2CF9AE}" pid="17" name="TextColor">
    <vt:r8>0</vt:r8>
  </property>
  <property fmtid="{D5CDD505-2E9C-101B-9397-08002B2CF9AE}" pid="18" name="TransparentButton">
    <vt:r8>0</vt:r8>
  </property>
  <property fmtid="{D5CDD505-2E9C-101B-9397-08002B2CF9AE}" pid="19" name="UseBrowserColor">
    <vt:bool>1</vt:bool>
  </property>
  <property fmtid="{D5CDD505-2E9C-101B-9397-08002B2CF9AE}" pid="20" name="VisitedColor">
    <vt:r8>10040268</vt:r8>
  </property>
</Properties>
</file>